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4F8E-73AD-4472-A3C7-95A0944D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EDF-BB6D-4FC5-9568-A8F1741C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A97BD-0001-4492-94F3-FF378A5A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5394C-20DD-45E1-9E94-66A7BCEB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89E7B-2FA7-47EE-8CA1-20CFD49B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C4660-75BF-4831-8BEA-06A50847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CF711-7F39-46CE-8425-379DDB9A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D09FE-6731-41DD-982C-C40CD9CB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694C5-3604-4567-8986-35A43698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D39EE-33AA-4294-8C56-BF1B7EFF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FF5E5-1DC5-484F-8280-C4BFA846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68BE8-53A8-4E4F-B1DC-A027CC02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0B51-B7A9-4C13-9279-D86FCBBA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31344-9963-4573-B937-8C6A6D8B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CD45F-1135-493F-BE15-EF8469DF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20FEF-30B4-4F96-8F31-18970B07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1C371-FE37-466B-98D7-7EE79105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5DE59-B492-4A71-B6DD-B3C5CA2C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9FF44-78C6-435A-8F2D-5770D389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907AB-AEE5-4242-98FF-FCE4D8AA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4CFA2-25BB-4C4D-B7F1-B343D988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95AEB-BD14-4FBF-9199-CF0BA47C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82322-260E-40A2-BF7D-28D0ADBB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64DE-059D-4EB3-8654-C8676228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0A9E0-94B7-46D3-BC31-76FF2FD8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94019-F700-4987-B26D-569455A7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58882-C19D-4F49-899C-E73B5110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04A2A-3801-4D98-82E6-C8D06317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04364-6832-4AD8-A705-33F77824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05F33-8E0E-424E-9F39-8A1864C6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9659D-0DE3-4632-8002-476765EB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25154-0317-4936-8243-DBDCDE33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F230E-263D-4669-A3C1-221614B9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8F975-BF8A-4A18-A9DF-9FC8F01C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63C9-A76F-468F-8124-A89CCD68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99A36-2C35-47C1-8B51-7AF7E08E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D6AD0-EFD2-43CA-95F9-695E9D04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1A622-5A41-4D3C-A0CF-D8F1C01E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BCD58-9B2E-4AF0-93F9-9253A573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40344-03B3-4BA6-A823-CAC3E220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668CC-2958-4C3F-B52A-DF742247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B3D1D-ECEF-4EDC-8C10-3243806C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C2A52-0C15-4F18-BE8A-CDF99721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73644-CCF2-4CB6-B21A-E10BC36B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E3BFB-531F-4B6C-963B-157D9072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790B-3E75-4FA9-9A22-47825FCB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9A10E-3EC3-4771-9DB5-7297BC82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BCB81-499E-4FB5-9E53-68D53C7A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E3061-B6C5-49C6-B2C0-D36D36E2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C8045-0C6E-4686-B704-093B9F08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13A70-1648-4CC2-9200-37E13CB5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147A4-714B-4CD4-A8CB-B934E60C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EFA6E8-2B0D-46B2-ACEA-7FECCE5C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869222-820F-407E-9015-48036E93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23B5C-C62D-4EAB-AFE0-56E993C5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9A19E1-36F9-42FC-B13F-93905DC1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EE90-4D7D-4E52-9AD9-8D0D665F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6D07CC-860F-47DC-B006-FB987F0E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AD307A-F9EC-49FA-A27C-67D796F1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251E1-60C8-4F72-B97F-5468E269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91B788-4665-4E52-B441-814A2938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2FCF1F-3264-49CE-B56B-EABBF5BC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F8298-865A-40CF-A9CD-2E54EC79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830660-D2BA-4023-AA64-4BE5B6F8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B6D8F3-A3B4-481B-A2FA-35279CCE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76810-16FF-4BE9-BD92-CCC9397A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77F31F-DC6E-43D1-A605-171787B6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D315-5732-45F3-8A6D-4F3423F4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0064D8-7413-491A-8A7F-3EAD1EAC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EDE60D-5B6F-4A27-AEB8-F17F1712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A58EF3-5848-46E1-9137-1E2B91F3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BE5B14-22BE-49CC-927A-944830AF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7E340-BD5E-425E-BF63-B18E8CCB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C21663-F47A-4D33-9258-8FB6768D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CB0EA-DEEE-4008-BE75-D83597F3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8631F-7089-478E-A770-0D6FE1B6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2DA139-F61E-43EE-B717-BCC481C2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0AEC01-1780-4C8A-8EC0-9EDF95F2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E6B7-607F-42F0-A2C5-0A9DEF36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FF297-DFB9-4FFE-B843-1ECC717C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18E2D0-76F1-407F-993B-0F913737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B24B5B-210C-4941-89EA-B1F701B6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EE05CA-814D-47E5-B232-0CE70E91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8A4183-7547-4FC9-91DB-20CE1782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CC22B-B011-4D24-8F5B-825F0AC0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29F4AB-95BB-4C21-A4BF-C48396D7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431D22-8AB5-4024-8023-6AF6EB27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BEEBEA-C02E-4B4B-B782-3BF6F49A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075EF5-D930-45B6-8549-64D10E4E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AC84-7CAA-4D6B-91A0-E81092BC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BFE755-7EC6-44E0-AD90-A8FCDCBA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93206E-9FF1-42E6-9998-1E70BC7A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3D6698-4CBA-45F6-8928-7E1C264A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92F158-B35F-4CFE-B202-C0E48E22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2D552F-385C-4443-A572-7E9E60D9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9D20BB-9FB7-4BED-8C36-867B5E2D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1FD93A-9004-4553-AEE8-14A98D12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44B2F7-6E40-436D-A232-CCD0B3BC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D43109-2D37-41A9-8E6B-5AF01DD8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5881B0-E8CA-4833-9E46-C2C9A6D7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9191-3137-496E-ACEA-E0803156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DEC807-CE7C-4121-9429-FEFE15E8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E2C1BF-81E2-42C1-8683-E2DF1672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F7499A-2C8A-4D48-B4A6-609123D8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1CDB-C5E2-4FED-8ACF-D9F80CE2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7B3E-A655-4FEB-BF42-A84A4454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2E2A-4774-4DA6-AC52-3CEDB683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F85F-E5AB-4068-A55F-1701A1D1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BAF7-7ED9-4499-9B31-344F4BA4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E7A3-C7AB-4B1D-B9AB-498A2536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A7658-C39E-4EDD-8270-4B2C8730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385DD-A4B6-44E7-935C-F452ADAE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80B2B-2537-4D50-9D32-E4B7B514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5BD5A-A777-4E0E-92FC-79CD33F7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653CA-E1AF-4285-9902-99AA7C2D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C726-036C-4445-9A04-17796580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0C655-AACA-4CFC-9D65-21990E88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E6891-2706-4C78-8196-616A5968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18037-99F7-4984-97A4-94D9529F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AB4D0-B059-4700-8279-9CC25A8F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65FD6-BB51-4B7F-86BC-2171BEA2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53798-6053-4348-B0D2-D0775C9E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38BCC-3750-4142-BADC-BA59F5E2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C920A-AB55-4FA7-90C5-D22A2332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73585-6797-4ECA-AC87-9A8994E8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94E9F-A977-4A11-96DE-BE4F62B5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F18-CA4B-41C5-8120-C07FC806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B263C-A9D9-46A8-ADEC-215A313D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800B6-024C-42BD-8F44-7B9EE829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86EB0-EC90-4510-ABB5-3DC80785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528FF-A96D-4172-8BCE-8C240795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DDA13-608C-4D5B-B5E6-1AC5DCD1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010AF-D348-4DAA-8555-7A99550B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999B3-2BDC-41C2-BF7E-C25482FF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7CDF8-F5F0-4B69-9B41-E63085AF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94712-A29C-4BA4-BC8A-1AC1CD23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436BA-9D79-4181-BBC3-63243AD0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8060-18F9-442F-8E5A-0011F275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8F376-B7C9-47AB-9620-70FF8279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5C1B5-1A7E-471A-AA4A-98F0A874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B38C8-5AB8-474E-83CA-52339F97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E2BE2-2F16-4B4D-9E58-B44C6258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42146-2F01-4924-9613-95B996A6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DA811-186B-4570-8308-55B8CC97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BADD4-D922-4B90-B46C-D1AAC667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9B99A-F213-4A55-B7C6-569623B4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2FE20-322E-42B7-B1A2-6D9166B1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6125A-2275-4509-A7B3-80D5424E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803-F7F2-48DB-9188-9CDC0D7E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58F66-5D8B-4682-948D-DAC19642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9E3E9-72B9-447F-9BF2-772C8FA5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305A3-C507-4C2C-A9BA-57A4CE18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2FF4C-681F-4039-9EE2-803896A5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18C5C-7AE5-4AB4-8BD8-FC398C7B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FA233-DBDD-46D6-B221-FBEAB144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FA1EB-7D02-460A-A983-F7156558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6A63D-6024-4A5F-A4D2-3FD86B17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271E7-8D86-4158-8448-703070F9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B9AAC-A93B-4281-A729-037A91F6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5F3B-BEA3-4AA0-BBBA-47212A5A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F0805-FD3D-4594-91D0-05E6BE17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618CE-1B93-4250-BBAD-B2665821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BFCC4-E111-4325-97F5-D18AFF38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8DF37-17E1-466D-8286-D9FBA44F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6BC4B-AAFE-4E13-B073-E3DD4E05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8468E-2BAF-4091-A30C-B6148B33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26F6E-EE15-4A74-BB38-726AFA48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1B856-C1DF-49F1-8255-8C388CC4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EE79E-D2A1-4E32-9D7F-2B169804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E3ECB-4A35-4A4E-AB26-F2B432C3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E88C-F143-4BB6-A625-068ACCD6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88744-AFA1-4473-A259-63B0A6CA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4EABD-8EC4-4FE9-87CC-2A1944CD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87890-37FE-4C27-AD82-66973B7D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52EBD-4747-4C26-9B45-BBEDCD5A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DA9D6-BFEA-41C0-8497-B3DA9354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61BF6-D455-4F60-9F93-04677EFF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48120-18EB-4BAB-BEDD-E68E3C2E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93908-2172-49BA-B9C4-EFE25E99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18DF2-F28A-4265-87C2-42173B06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2D5F2-6BB4-4081-BFE0-AB6C6977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4AF-1FF4-4FAB-8AE2-67C970A3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543F3-E69B-43DF-8AD1-98CDE53C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4E552-651D-4A20-8996-7E53E084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7E75D-A88F-4A47-AFAB-BB6D57EC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819E4-5239-4AB0-AF1D-1B95E835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AE276-7CBF-484B-A9CB-91F0BB55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E57CA-A427-47BA-BEEE-113E682A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483F5-6207-4631-9FC9-4B32BBEF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502D8-8A28-488B-AB7F-E7F9B258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391BF-E064-4A98-9549-7A651307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03BDB-C61F-4658-824A-35F50AA9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9655-4B7D-4781-9EDF-FFE1505F5AA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31773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720" y="3244320"/>
            <a:ext cx="78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2788-06A0-4FEA-89C1-1FC85DA450F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TextBox 13"/>
          <p:cNvSpPr/>
          <p:nvPr/>
        </p:nvSpPr>
        <p:spPr>
          <a:xfrm>
            <a:off x="246852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cb38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8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cb38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33"/>
          </p:nvPr>
        </p:nvSpPr>
        <p:spPr>
          <a:xfrm>
            <a:off x="531720" y="3244320"/>
            <a:ext cx="78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510B-9778-4405-8301-D2BFF029B96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6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3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774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4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5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Freeform 11"/>
          <p:cNvSpPr/>
          <p:nvPr/>
        </p:nvSpPr>
        <p:spPr>
          <a:xfrm flipV="1">
            <a:off x="-4320" y="491112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720" y="49831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7FDB-18CE-4EA1-A70A-2F9B887F631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TextBox 16"/>
          <p:cNvSpPr/>
          <p:nvPr/>
        </p:nvSpPr>
        <p:spPr>
          <a:xfrm>
            <a:off x="246852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cb38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8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cb38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39"/>
          </p:nvPr>
        </p:nvSpPr>
        <p:spPr>
          <a:xfrm>
            <a:off x="531720" y="49831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B4F1-2357-411A-A44D-89CB88FF4F2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0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3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914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4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5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Freeform 11"/>
          <p:cNvSpPr/>
          <p:nvPr/>
        </p:nvSpPr>
        <p:spPr>
          <a:xfrm flipV="1">
            <a:off x="-4320" y="491112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720" y="49831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4FBA-AAF0-4A19-94C4-F355D2EDACE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CC87-0647-41A6-A079-599A0C95A11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02B3-25A5-45F9-BCA0-069EDD598E0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3F3A-82F0-46C5-ACD5-87E52A02D29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31773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720" y="3244320"/>
            <a:ext cx="78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979C-1DA9-4607-AB39-E19E66780FE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6C36-ED77-4AA8-A005-268CC6FC4D5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7F50-1262-4147-98F4-A87D7FA706E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586D-451D-4DED-B9C9-D09F5CBECBC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4A11-0D89-4DD6-8FE0-EF1EA0D507A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8712-E646-4D84-B765-041C1E2E2B3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491112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720" y="49831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A18D-CD40-4693-A01B-F92896270D4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Рисунок 7" descr=""/>
          <p:cNvPicPr/>
          <p:nvPr/>
        </p:nvPicPr>
        <p:blipFill>
          <a:blip r:embed="rId2"/>
          <a:stretch/>
        </p:blipFill>
        <p:spPr>
          <a:xfrm>
            <a:off x="-6480" y="444600"/>
            <a:ext cx="1605240" cy="1073160"/>
          </a:xfrm>
          <a:prstGeom prst="rect">
            <a:avLst/>
          </a:prstGeom>
          <a:ln w="0">
            <a:noFill/>
          </a:ln>
        </p:spPr>
      </p:pic>
      <p:pic>
        <p:nvPicPr>
          <p:cNvPr id="1108" name="Рисунок 8" descr=""/>
          <p:cNvPicPr/>
          <p:nvPr/>
        </p:nvPicPr>
        <p:blipFill>
          <a:blip r:embed="rId3"/>
          <a:stretch/>
        </p:blipFill>
        <p:spPr>
          <a:xfrm>
            <a:off x="554040" y="1725480"/>
            <a:ext cx="485640" cy="609840"/>
          </a:xfrm>
          <a:prstGeom prst="rect">
            <a:avLst/>
          </a:prstGeom>
          <a:ln w="0">
            <a:noFill/>
          </a:ln>
        </p:spPr>
      </p:pic>
      <p:pic>
        <p:nvPicPr>
          <p:cNvPr id="1109" name="Рисунок 2" descr=""/>
          <p:cNvPicPr/>
          <p:nvPr/>
        </p:nvPicPr>
        <p:blipFill>
          <a:blip r:embed="rId4"/>
          <a:srcRect l="0" t="17521" r="0" b="14220"/>
          <a:stretch/>
        </p:blipFill>
        <p:spPr>
          <a:xfrm>
            <a:off x="1593720" y="0"/>
            <a:ext cx="9263160" cy="4741920"/>
          </a:xfrm>
          <a:prstGeom prst="rect">
            <a:avLst/>
          </a:prstGeom>
          <a:ln w="0">
            <a:noFill/>
          </a:ln>
        </p:spPr>
      </p:pic>
      <p:pic>
        <p:nvPicPr>
          <p:cNvPr id="1110" name="Рисунок 4" descr=""/>
          <p:cNvPicPr/>
          <p:nvPr/>
        </p:nvPicPr>
        <p:blipFill>
          <a:blip r:embed="rId5"/>
          <a:stretch/>
        </p:blipFill>
        <p:spPr>
          <a:xfrm>
            <a:off x="4106880" y="3846600"/>
            <a:ext cx="4876920" cy="296388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1111" name="Рисунок 10" descr=""/>
          <p:cNvPicPr/>
          <p:nvPr/>
        </p:nvPicPr>
        <p:blipFill>
          <a:blip r:embed="rId6"/>
          <a:srcRect l="0" t="4396" r="16468" b="13267"/>
          <a:stretch/>
        </p:blipFill>
        <p:spPr>
          <a:xfrm>
            <a:off x="9156600" y="3846600"/>
            <a:ext cx="2853000" cy="296388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1112" name="Рисунок 9" descr=""/>
          <p:cNvPicPr/>
          <p:nvPr/>
        </p:nvPicPr>
        <p:blipFill>
          <a:blip r:embed="rId7"/>
          <a:stretch/>
        </p:blipFill>
        <p:spPr>
          <a:xfrm>
            <a:off x="9656640" y="2335320"/>
            <a:ext cx="2352960" cy="1133280"/>
          </a:xfrm>
          <a:prstGeom prst="rect">
            <a:avLst/>
          </a:prstGeom>
          <a:ln w="0">
            <a:noFill/>
          </a:ln>
        </p:spPr>
      </p:pic>
      <p:pic>
        <p:nvPicPr>
          <p:cNvPr id="1113" name="Рисунок 11" descr=""/>
          <p:cNvPicPr/>
          <p:nvPr/>
        </p:nvPicPr>
        <p:blipFill>
          <a:blip r:embed="rId8"/>
          <a:srcRect l="18216" t="15126" r="17762" b="5568"/>
          <a:stretch/>
        </p:blipFill>
        <p:spPr>
          <a:xfrm>
            <a:off x="666720" y="3911760"/>
            <a:ext cx="3306960" cy="2898720"/>
          </a:xfrm>
          <a:prstGeom prst="rect">
            <a:avLst/>
          </a:prstGeom>
          <a:ln w="9360">
            <a:solidFill>
              <a:srgbClr val="f2f2f2"/>
            </a:solidFill>
            <a:miter/>
          </a:ln>
        </p:spPr>
      </p:pic>
      <p:pic>
        <p:nvPicPr>
          <p:cNvPr id="1114" name="Рисунок 12" descr=""/>
          <p:cNvPicPr/>
          <p:nvPr/>
        </p:nvPicPr>
        <p:blipFill>
          <a:blip r:embed="rId9"/>
          <a:stretch/>
        </p:blipFill>
        <p:spPr>
          <a:xfrm>
            <a:off x="9955080" y="266760"/>
            <a:ext cx="1803600" cy="1806480"/>
          </a:xfrm>
          <a:prstGeom prst="rect">
            <a:avLst/>
          </a:prstGeom>
          <a:ln w="0">
            <a:noFill/>
          </a:ln>
        </p:spPr>
      </p:pic>
      <p:sp>
        <p:nvSpPr>
          <p:cNvPr id="1115" name="Прямоугольник 13"/>
          <p:cNvSpPr/>
          <p:nvPr/>
        </p:nvSpPr>
        <p:spPr>
          <a:xfrm>
            <a:off x="2354760" y="0"/>
            <a:ext cx="7096680" cy="11912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Gothic"/>
              </a:rPr>
              <a:t>Визуализация зоны отдыха со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Gothic"/>
              </a:rPr>
              <a:t>светодиодным фонтано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Рисунок 7" descr=""/>
          <p:cNvPicPr/>
          <p:nvPr/>
        </p:nvPicPr>
        <p:blipFill>
          <a:blip r:embed="rId2"/>
          <a:stretch/>
        </p:blipFill>
        <p:spPr>
          <a:xfrm>
            <a:off x="-6480" y="444600"/>
            <a:ext cx="1605240" cy="1073160"/>
          </a:xfrm>
          <a:prstGeom prst="rect">
            <a:avLst/>
          </a:prstGeom>
          <a:ln w="0">
            <a:noFill/>
          </a:ln>
        </p:spPr>
      </p:pic>
      <p:pic>
        <p:nvPicPr>
          <p:cNvPr id="1117" name="Рисунок 8" descr=""/>
          <p:cNvPicPr/>
          <p:nvPr/>
        </p:nvPicPr>
        <p:blipFill>
          <a:blip r:embed="rId3"/>
          <a:stretch/>
        </p:blipFill>
        <p:spPr>
          <a:xfrm>
            <a:off x="554040" y="1725480"/>
            <a:ext cx="485640" cy="609840"/>
          </a:xfrm>
          <a:prstGeom prst="rect">
            <a:avLst/>
          </a:prstGeom>
          <a:ln w="0">
            <a:noFill/>
          </a:ln>
        </p:spPr>
      </p:pic>
      <p:pic>
        <p:nvPicPr>
          <p:cNvPr id="1118" name="Рисунок 1" descr=""/>
          <p:cNvPicPr/>
          <p:nvPr/>
        </p:nvPicPr>
        <p:blipFill>
          <a:blip r:embed="rId4"/>
          <a:srcRect l="0" t="16718" r="0" b="13482"/>
          <a:stretch/>
        </p:blipFill>
        <p:spPr>
          <a:xfrm>
            <a:off x="1461960" y="287280"/>
            <a:ext cx="7821720" cy="4094280"/>
          </a:xfrm>
          <a:prstGeom prst="rect">
            <a:avLst/>
          </a:prstGeom>
          <a:ln w="0">
            <a:noFill/>
          </a:ln>
        </p:spPr>
      </p:pic>
      <p:pic>
        <p:nvPicPr>
          <p:cNvPr id="1119" name="Рисунок 3" descr=""/>
          <p:cNvPicPr/>
          <p:nvPr/>
        </p:nvPicPr>
        <p:blipFill>
          <a:blip r:embed="rId5"/>
          <a:stretch/>
        </p:blipFill>
        <p:spPr>
          <a:xfrm>
            <a:off x="5776920" y="3228840"/>
            <a:ext cx="6224760" cy="3409920"/>
          </a:xfrm>
          <a:prstGeom prst="rect">
            <a:avLst/>
          </a:prstGeom>
          <a:ln w="0">
            <a:noFill/>
          </a:ln>
        </p:spPr>
      </p:pic>
      <p:sp>
        <p:nvSpPr>
          <p:cNvPr id="1120" name="Прямоугольник 11"/>
          <p:cNvSpPr/>
          <p:nvPr/>
        </p:nvSpPr>
        <p:spPr>
          <a:xfrm>
            <a:off x="5991480" y="247680"/>
            <a:ext cx="558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Gothic"/>
              </a:rPr>
              <a:t>Визуализация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Gothic"/>
              </a:rPr>
              <a:t>многофункциональной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entury Gothic"/>
              </a:rPr>
              <a:t>сцен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7-10T07:13:20Z</dcterms:created>
  <dc:creator>User Windows</dc:creator>
  <dc:description/>
  <dc:language>en-US</dc:language>
  <cp:lastModifiedBy>alexandr</cp:lastModifiedBy>
  <dcterms:modified xsi:type="dcterms:W3CDTF">2023-10-13T09:08:11Z</dcterms:modified>
  <cp:revision>26</cp:revision>
  <dc:subject/>
  <dc:title>Благоустройство общественной территории центральной части р.п.Нововаршавка Нововаршавского района Омской области</dc:title>
</cp:coreProperties>
</file>