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EE6-AFA7-41E0-9C6D-754E8BA7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1E6-9684-4548-990D-5669BA0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9FCC0-B4D2-4164-A8E5-A39349C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D9E00-C8E5-4A36-960C-B1C9545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C4A7-66B2-4C6A-B1FA-12630D6E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E4C7D-DE00-402A-9C46-9FB5AC1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EC5C9-A4D9-468E-A2D0-DDBFB1A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9388F-893F-4E5D-862C-CED5285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633B3-FA23-45C1-B653-E688C4E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6960F-4118-4ED3-94FD-2D1BF8B8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745C3-76FA-4FF4-A522-79DB899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27262-EE1C-4BFB-86FF-EC9F1C49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7C0-FB7A-4CD2-8D94-153784AA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052B5-3BCD-4834-804E-08B7B17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156F5-1F5F-48DE-B55D-562A2965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BA71F-3731-4115-BB4B-9A752C21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E1537-F5F7-4693-9737-AC16CD6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B3335-36CA-44F4-A769-BC6501F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0700B-3722-45FC-BACE-0CB492C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BFE5-39FE-4881-98D4-50F1500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98794-25EF-40B3-83B1-6233373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22C18-42DB-4250-BA7A-891AA99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880B1-A862-400E-885B-D3BEAF98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188-246F-4921-AACF-E9B412AB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A88DF-DDFE-4A9A-BF33-8D714AEE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403A6-0626-4641-AB6E-D232629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EC3BF-0185-4629-9969-A9778D31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F50D8-19F9-4F92-BB50-282CACD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3E47-3D31-4082-A782-FE93A77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D8726-70AE-4319-A551-F0B30FDB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7BAAD-BBE9-42C5-95D3-68EEF759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989D9-8CA8-4D5F-97BF-47F65FD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67070-435A-4C65-B8E0-7383B7E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FDED-BF48-4118-9351-84707CA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D1E7-A043-460B-9104-9B6422B8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45E0A-E395-4ED8-AB65-DC8F8A9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ED6FC-AC0D-451C-BA55-027EDC12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46DF-E218-4CD9-BAD9-FF98A5D8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E08B3-2AB9-4DCD-8933-36E53391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4644A-01D7-4616-AE45-5ACFB137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25A3C-EF56-4F62-8C7C-14475B0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CA6A0-E688-471F-B244-B7D001B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6CBF4-D4C3-483D-92E7-1EB3E43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EC6CA-C415-4E29-8969-1E7DB10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47310-592F-4B99-ACA0-3E8F4A0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F43-82E7-4CBA-935F-4CA40F5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BB789-124B-4BC6-BFF1-29272C2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8B871-DBAF-426C-8899-D538F1A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275BD-03D3-47FB-9EC1-E1EAD24E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FAA5F-E196-4FBF-B386-EE395B2C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061D6-0031-4733-BAAC-15556897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AC69E-DEBB-4F4B-9B52-224D3C70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D6D41-5DC5-4092-97D2-863BBA4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620D7-8D62-4280-8D00-9938F91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E709D-6746-48E1-B0F2-9F24B694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EF891-81C4-4496-B013-74448AAD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A8D-462E-4BA2-957F-4CEDECA7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AD9C3-8552-42A3-BBB4-68A07F2E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645E0-E8A7-4A06-BE97-8522977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92D8B-73DB-4F88-B867-EF0B746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40D84-EA9F-473C-9D99-6BDA69A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A9E6B-EDAE-4F94-B7A2-FC2F525B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45AC1-3B17-46E5-A72C-C91FE44A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8D7C8-6423-4AA9-9C95-6DAEDD4E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1E143-EDF6-476E-B518-A7A42ADE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E86F2-21FC-411E-8264-C076684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396D4-496A-497D-BA9D-81A79DB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D8CB-930D-4DD3-AB71-DAB721F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8BEFA-4EB4-4DED-BFD7-C23917F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F4E1A-5622-4C2A-9FBB-A8089D42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2D55C-D167-4797-B47F-A0B2E871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BFDDA-5E97-4627-A784-AC8F0B8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93C9D-28C8-4998-89AA-4C89733D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71BC3-1EAF-4341-9D67-635F67E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11A9D-7807-4EFF-BA68-1519D81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52733-6B2E-4DBA-A85F-978E7505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115B1-D05E-4E3A-B848-D6B24595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A1C70-1639-48C6-B559-9FAE0335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A27-D68D-48EA-8699-AA58B64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A4AB6-604A-4A2A-AA7C-5BB3F43B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7BD671-D2F6-4E93-B42D-3147C15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12C66-7955-490D-9FE0-97147FE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269F5-DE0C-4CB9-87E4-D24A8A9A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BAD9F-C856-4C70-9CF5-DEA1FF6B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9EADC-3AF8-4782-A170-13D532D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4EDDC-1188-4117-8C0F-ED598B3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1AB99-A68C-4B5D-B357-4A72836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9F796-7654-4AA3-AD8B-09640B5C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B3A53-A0C2-413F-A899-2C4DD1D8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96D6-73A0-469D-BD00-607D2588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3EC19-FB88-4920-94B0-0C12EC0B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95A3F-C6A7-403B-8111-82E893E1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E7918-3DCD-46A6-AE60-E0EBEB9B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827E8-C0B2-4296-9BB4-99C17770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F49EA-8CDA-44A0-B92A-3F751995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C7080-9601-4B67-B460-6687FE76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6F015-89FA-43F3-B794-517BC57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C97A3-183E-4156-ADAE-723CFAC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8CBFD-F1E3-4EF3-9B44-2C676AE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A11AF-E7DA-429D-899F-539FB47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C89E-62BC-4163-8A01-70E3015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ED9A9-14E9-45B0-97F3-F799CACC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B5C4E-89F6-43A0-9C93-62C3BDB9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BBD40-3F5F-42EA-963C-182EF3F2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1AF-59CD-4B7F-8F70-C3D9A502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B43F-2E19-4463-A34D-C57E43F4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59E-F9C4-4E0B-AB53-263A1B9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76B-5D42-4C9E-AB71-36822F7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3CF6-D9B8-4026-9DE2-1DFEA578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66D3-B013-4E48-95D3-3B3B0E1A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8BBD-3E57-4844-BE7F-5B29AC9C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6E4A-D078-4449-99B5-833B913E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785D-F903-4102-8996-D11D156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4B65-A86F-4904-9700-E9A9ED2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3360-5700-4CAF-9420-DB4817A5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803-E876-4281-8E59-06C75D8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52FB-0F18-44EC-8560-D0EAB572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04BF-97EF-49D0-B988-6FA3FFCD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0FA3-BD66-442A-A4E1-0373AA1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1643-B0EF-44D2-8054-5B1B532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5070-2DBC-4506-9FC4-3131F08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251B-0E10-49E4-A3EB-A628A4C3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D902-D6E5-4FE7-812A-E582B3B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7E54-80C1-4E6A-91A9-9794E896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C49C-BEAD-468B-AAAD-857C861E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19EA-15F9-4174-AE78-63157987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D60-29B3-473F-B652-CBC06DD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9E580-C0F2-4D10-87F2-1474599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3A31B-7AF8-4F19-8C28-204734D2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29D0-D6C6-46E5-93A2-71486B26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61A5-6638-4652-814A-AE03D2E7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81EDE-CDD7-4319-92BB-D60D98E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8BBF-E879-4C5E-8C1B-D3891AB9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A06F-7021-43D6-8D79-8ABF07A9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7798-3A9A-40B0-9CCE-96F06EF0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8DC4-4284-4F97-899D-B1C7158E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9909-7856-4CAB-BD4A-EE84866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8DF-28B7-4022-8408-4E401875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AC34-D6D9-4383-AB93-74ED798E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7BD5-C7A4-4EFB-8B35-E84E73DF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61958-B566-493E-8623-9AD585E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91257-0732-4A6E-AFD5-12E32038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402E-21DE-41F3-AC60-BD7EA8AB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A8A6-5391-4E23-830A-7532494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D243-4032-4873-BAE8-FDA76A5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7440-3544-466A-8B30-7228309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4EC7-BE4F-4A95-A979-F4DE220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E5D3F-C4BE-4387-A4E1-41BFF43A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93C-4C5A-41DC-BF1C-AC0F7D35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3841-C097-42F8-B6AF-D41FCF51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BB2D-904C-4C3B-90BD-94A58F6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260F-AACD-4903-85E5-3304A058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56EB-2CD0-4B3C-BB6B-3387358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E1FE-62CF-4630-A61F-444603E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60D4-05AF-473F-B748-8517A37E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328B8-AD03-4D64-8E20-006FE4B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3BC6-708E-4183-9FB1-1A28742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6F8E-9C4B-4229-944A-53F5CA8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71009-2CED-4E31-8B5B-ABD42863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2FE-5365-4B3F-B453-D94E7F7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FAD9-136E-4BF4-A446-4119CB7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4186-D752-409A-A630-77564A7F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F8E4-DD3E-4A18-8B8C-84FFA65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18BC-17CB-40F6-ADBA-8B6911A0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34F2-0F5B-40C5-B35A-B84D7EAF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FB28-B32D-43E8-B525-330E9BF8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E1076-1746-44A2-932B-A5CF4086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DD374-E88A-4D03-8787-4990107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9D23-EF67-451B-9CB1-30901C9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5E3A3-1E1A-4751-8D59-9AB15DA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454-6CEB-41A9-9A2D-216A1ED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9E0BD-C081-422E-82CF-53CAF57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D2BC-E371-486C-A198-FC5A061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3ABE-B4D0-4832-B01D-B8BFC1A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A309-5294-43EA-96B6-7F8FE27A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7490-0A68-4E11-B09A-1EA9C251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61A0A-FF78-463A-9EA9-637B2AB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3289-D745-414F-BE73-7585A17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3B27-38E5-4963-B680-DF46B3F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524D-73C7-4FA1-BBEA-7864FE2B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05A6A-550C-4DF8-A4D8-900324E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E90-4F89-488B-AC27-4A23F72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0FEAC-0EB6-47F2-A18B-FE0CE0E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5AAF-9CA9-449E-B676-5977DC6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4AB3-0C08-424B-BAD5-1376164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54E1-3090-4664-8087-F2B60473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1D91-2FB8-4F51-A59A-2588E34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79E1-A451-4A5D-B15A-C20D60F0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F5A29-1F12-4480-AF28-2D3667EA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C1B52-2EE4-4101-97F3-1214A01F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6686-67CE-43D6-AB55-D8B3C67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E9356-7311-42AD-ABFB-9B7E960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FC2E-326B-465C-8972-86ED6D01683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19E-51BF-4F9C-8C93-B7AD49EAFCB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3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7C0-89C9-4869-82B8-E64049F8D88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74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9CB-1504-4809-B09C-837A4491B39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cb3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39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834-485A-4A8C-A6FB-FBE5B098F16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14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2B4-1AF4-4280-A0AF-7F9E9EF92EB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5404-E80E-4F1D-98DA-760308C6832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093-5964-4B65-A979-18961381A4B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CFC0-9721-4DDC-855D-95A47D70033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B50-8E3E-4D68-9AF6-BDF69A75AB8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BB5-021D-4D79-AFB6-6A261C827C3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03B-288A-46B3-AA6D-A37C810D32F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A094-D30F-4480-867F-7A1FF3AAB3B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C231-9616-4328-9FD4-1D41EA19BB6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5D48-50CE-490D-AA43-2E81577A63B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55f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5360" cy="44006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800" y="4316400"/>
              <a:ext cx="423720" cy="15811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23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2760" y="6572520"/>
              <a:ext cx="133200" cy="2808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32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48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460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48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4880" y="57722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55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9cb3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67AF-A8C6-47AC-BD83-D8C929853E5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17" descr="\\3AM_GJIABBI\Users\Public\Майзнер\№1.2. Фото\B6he8PHtG0k.jpg"/>
          <p:cNvPicPr/>
          <p:nvPr/>
        </p:nvPicPr>
        <p:blipFill>
          <a:blip r:embed="rId1"/>
          <a:stretch/>
        </p:blipFill>
        <p:spPr>
          <a:xfrm>
            <a:off x="7719840" y="131760"/>
            <a:ext cx="4472280" cy="3357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6" descr="\\3AM_GJIABBI\Users\Public\Майзнер\№1.2. Фото\acC0PTSogkM.jpg"/>
          <p:cNvPicPr/>
          <p:nvPr/>
        </p:nvPicPr>
        <p:blipFill>
          <a:blip r:embed="rId2"/>
          <a:stretch/>
        </p:blipFill>
        <p:spPr>
          <a:xfrm>
            <a:off x="3852720" y="666720"/>
            <a:ext cx="3978360" cy="29862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5" descr="\\3AM_GJIABBI\Users\Public\Майзнер\№1.2. Фото\2kMmbimh33Y.jpg"/>
          <p:cNvPicPr/>
          <p:nvPr/>
        </p:nvPicPr>
        <p:blipFill>
          <a:blip r:embed="rId3"/>
          <a:stretch/>
        </p:blipFill>
        <p:spPr>
          <a:xfrm>
            <a:off x="276120" y="236520"/>
            <a:ext cx="3633840" cy="4838760"/>
          </a:xfrm>
          <a:prstGeom prst="rect">
            <a:avLst/>
          </a:prstGeom>
          <a:ln w="0">
            <a:noFill/>
          </a:ln>
        </p:spPr>
      </p:pic>
      <p:pic>
        <p:nvPicPr>
          <p:cNvPr id="1110" name="Рисунок 7" descr=""/>
          <p:cNvPicPr/>
          <p:nvPr/>
        </p:nvPicPr>
        <p:blipFill>
          <a:blip r:embed="rId4"/>
          <a:stretch/>
        </p:blipFill>
        <p:spPr>
          <a:xfrm>
            <a:off x="-6480" y="444600"/>
            <a:ext cx="1609920" cy="1073160"/>
          </a:xfrm>
          <a:prstGeom prst="rect">
            <a:avLst/>
          </a:prstGeom>
          <a:ln w="0">
            <a:noFill/>
          </a:ln>
        </p:spPr>
      </p:pic>
      <p:pic>
        <p:nvPicPr>
          <p:cNvPr id="1111" name="Рисунок 8" descr=""/>
          <p:cNvPicPr/>
          <p:nvPr/>
        </p:nvPicPr>
        <p:blipFill>
          <a:blip r:embed="rId5"/>
          <a:stretch/>
        </p:blipFill>
        <p:spPr>
          <a:xfrm>
            <a:off x="554040" y="1725480"/>
            <a:ext cx="485640" cy="609840"/>
          </a:xfrm>
          <a:prstGeom prst="rect">
            <a:avLst/>
          </a:prstGeom>
          <a:ln w="0">
            <a:noFill/>
          </a:ln>
        </p:spPr>
      </p:pic>
      <p:sp>
        <p:nvSpPr>
          <p:cNvPr id="1112" name="Прямоугольник 13"/>
          <p:cNvSpPr/>
          <p:nvPr/>
        </p:nvSpPr>
        <p:spPr>
          <a:xfrm>
            <a:off x="914400" y="0"/>
            <a:ext cx="9977040" cy="1557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Визуализация устройства тротуара по ул. Пролетар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и ул. Кооперативная (от МБОУ ДО «Нововарша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Детская школа искусств» до ул. Пролетарская, д. 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в р.п. Нововаршавка Нововаршавского района Ом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2" descr="D:\desk\52b66524ccb71a2536dd6069105751aa.jpg"/>
          <p:cNvPicPr/>
          <p:nvPr/>
        </p:nvPicPr>
        <p:blipFill>
          <a:blip r:embed="rId6"/>
          <a:stretch/>
        </p:blipFill>
        <p:spPr>
          <a:xfrm>
            <a:off x="4395960" y="3711600"/>
            <a:ext cx="4322520" cy="2774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4" descr="D:\desk\Screenshot_1.jpg"/>
          <p:cNvPicPr/>
          <p:nvPr/>
        </p:nvPicPr>
        <p:blipFill>
          <a:blip r:embed="rId7"/>
          <a:stretch/>
        </p:blipFill>
        <p:spPr>
          <a:xfrm>
            <a:off x="7920000" y="3579840"/>
            <a:ext cx="4100400" cy="2724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1" descr="D:\desk\post_5cffd617f15d4.jpg"/>
          <p:cNvPicPr/>
          <p:nvPr/>
        </p:nvPicPr>
        <p:blipFill>
          <a:blip r:embed="rId8"/>
          <a:stretch/>
        </p:blipFill>
        <p:spPr>
          <a:xfrm>
            <a:off x="384120" y="3672000"/>
            <a:ext cx="3951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0T07:13:20Z</dcterms:created>
  <dc:creator>User Windows</dc:creator>
  <dc:description/>
  <dc:language>en-US</dc:language>
  <cp:lastModifiedBy>пользователь</cp:lastModifiedBy>
  <dcterms:modified xsi:type="dcterms:W3CDTF">2023-10-23T09:31:05Z</dcterms:modified>
  <cp:revision>29</cp:revision>
  <dc:subject/>
  <dc:title>Благоустройство общественной территории центральной части р.п.Нововаршавка Нововаршавского района Омской области</dc:title>
</cp:coreProperties>
</file>